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00DC-2703-46FA-AC5C-43297638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67632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46F7-89A6-4EF3-BA9B-E089DDF1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333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CB19-B634-4619-9EAB-E888BFFE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7116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1880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7116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1880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CADE-ABDA-47BF-9269-7EB16F14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0BC9-870E-4693-93A2-12B459DD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80E8-3CDA-4610-803C-A4E813D1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C534-D551-4D72-B718-BD6CF5BD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1E28-3483-49BE-B2E4-4EB8E4EB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228600"/>
            <a:ext cx="6172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7B6A-2ABC-4695-97DD-0B270CC6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583B-61B8-4CEF-8305-3F2576B4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333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93D9-B7E8-49E0-B348-6CE3811F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E345-97AD-4648-B377-E39FC20D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1658-1064-4C7E-AF32-1B22868C7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600200" y="15238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TD Mercury Accounting Modu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79CE-B203-45FF-913A-C562FEBD1340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porting to Quickboo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905120" y="2590920"/>
            <a:ext cx="533376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23880" y="1219320"/>
            <a:ext cx="66294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start and end date for 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how balance report shall be printed, Summary vs. 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550E-5E7D-453C-9BF3-2FAAE8E7D9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orting to Quickbooks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209680" y="1447920"/>
            <a:ext cx="5634000" cy="410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D4A3-6354-4543-8D44-E90CB9DD52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portin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to Quickbooks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214720" y="1447920"/>
            <a:ext cx="5857560" cy="4267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7924680" y="5486400"/>
            <a:ext cx="53352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2DFE-F9AE-476C-BE21-872E013A93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ta in Quickbook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990720"/>
            <a:ext cx="7239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E sales are exported by sale date of transac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S sales are export by z-out date if the z-out date is different than the sale dat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dividual sale data is not exported to Quickbook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ata is exported only as daily totals for each day in the date range selected.  Detail is found in FTD Mercury Reports (Mercury Forms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aily totals include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ash &amp; checks receiv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redit cards activ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use account activ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livery &amp; service charges on ord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duct category of the items on ord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07D8-9663-4608-9D34-B638868D17B2}" type="slidenum">
              <a:t>13</a:t>
            </a:fld>
          </a:p>
        </p:txBody>
      </p:sp>
    </p:spTree>
  </p:cSld>
  <p:transition>
    <p:comb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ournal Entries in Quickbook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43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553080" y="1676160"/>
            <a:ext cx="194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ies for Aug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ies for Aug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523880" y="1600200"/>
            <a:ext cx="4827600" cy="3840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H="1">
            <a:off x="6552360" y="1981080"/>
            <a:ext cx="83844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00800" y="3962520"/>
            <a:ext cx="83808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A955-21D2-4FEA-B696-619E8E1AEE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ournal Entries in Quickbooks Explaine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$100 or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D Mercu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boo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lowers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$59.99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erishables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$59.99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ocolate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$12.95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nd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$12.9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livery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$20.00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livery Income    $20.00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x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$7.06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les Tax Payable $7.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sh Paid $10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nk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$10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ers are part of the ‘Perishables’ product catego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colate is part of the ‘Candy’ product catego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220968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19720" y="274320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312408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358128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96252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434340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C620-48A8-4695-B83A-66E95D9C40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ndling Wire Orders in Quickbook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on wire order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ing floris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s selling commission of 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ing flori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d for product &amp; delivery less the sending florist commission and wire service commission of 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EB65-8F62-4B40-BA2C-D907D63245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Wire Orders Appear in Quickbook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ing ord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 payment of wire order is transferred into Accounts Receivable F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 of sales of product category f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going orde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  Payment from custom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%) Product &amp; Delivery (Outgoing s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80%) Accounts Payable F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80% that is paid to FTD on outgoing 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6E67-3EA9-4D05-ABF4-DD1BB22AC9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ckbooks &amp; Clearing House Stateme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must make journal entries in Quickbooks to account for what you are actually paid on wire ord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entries are already made in Quickbook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es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Payable  (80% paid to FTD on outgo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Receivable (100% of amount received over the wire on incoming ord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4637-CC87-42C9-8F31-94C2A04A8A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ckbooks &amp; Clearing House Stateme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ntries will you have to make in Quickboo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ommissions Expense (20% kept by sending florist on an incoming ord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Advance Expense (7% commission to FTD taken on an incoming ord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ments and other charges for wire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wire service expenses and cred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0909-A39D-4C06-8263-8730034A89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 Basic Concep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data is transferred\exported to Quick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FTD Mercury exports sales data to Quick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he FTD Mercury sales data appears in Quick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handle the payment of wire orders from your monthly clearinghouse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E106-F165-4030-87B3-EFEFC65CD6B3}" type="slidenum">
              <a:t>2</a:t>
            </a:fld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ckbooks &amp; Clearing House Stateme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’s look at an FTD Clearing House Statemen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Section B from the Clearing House Statement page labeled ‘ FTD Member Activity Statement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not use the amount listed for Section B from the Statement Summary Pa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ummary page does not show the amounts that you need to enter for  ‘Commission Expense’ and ‘Wire Service Commission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F224-4F2B-4A1E-AD47-B3C8D04C43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mber Activity Statement – Section B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95520" y="1886040"/>
            <a:ext cx="7094520" cy="339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D8C2-4071-4BBB-A3DC-4275E3ABD7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B – Incoming Ord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6095880" cy="2927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924680" y="2133720"/>
            <a:ext cx="121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4267080"/>
            <a:ext cx="7696080" cy="35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Add all 20 % commissions given for incoming orders. This is your ‘Commissions Expen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Clearing House &amp; Marketing Advance is the ‘ Wire Service Commission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0077-B05F-458D-8545-3277B57626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B – Incoming Ord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example,  FTD wire service commission equals $100.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‘Wire Commission Expense’  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3.4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+44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7.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3880" y="1523880"/>
            <a:ext cx="5791320" cy="27687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06" name=""/>
          <p:cNvSpPr/>
          <p:nvPr/>
        </p:nvSpPr>
        <p:spPr>
          <a:xfrm flipH="1">
            <a:off x="6781680" y="2438280"/>
            <a:ext cx="4572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781680" y="2743200"/>
            <a:ext cx="4572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781680" y="3429000"/>
            <a:ext cx="4572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B738-B99F-4835-A68F-3D49C45FD4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ckbooks Journal Entr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ing Ord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Receivable FT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37.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D Clearing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37.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d to Sending Flor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7.4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D Clearing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7.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D Wire Commis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.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D Clearing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.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6362-8517-4B07-9A66-59DAE9D126C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B – Outgoing Ord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6248160" cy="3000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924680" y="2133720"/>
            <a:ext cx="121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4343400"/>
            <a:ext cx="7696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Subtract all 20 % commissions earned for the amount listed above for outgoing orders. This is the 80% paid to FTD on outgoing orders. This amount has already been calculated for you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B85F-93F6-4FD2-BB65-7063FA3BB6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B – Outgoing Ord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6248160" cy="3000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924680" y="2133720"/>
            <a:ext cx="121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4343400"/>
            <a:ext cx="7696080" cy="32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In this example FTD accounts payable total is 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</a:rPr>
              <a:t>$1992.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28.00 –     5.60 =    22.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2409.00 - 481.80 = 197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715000" y="4724280"/>
            <a:ext cx="2209680" cy="38124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638680" y="4724280"/>
            <a:ext cx="2286000" cy="83844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A214-269A-4D45-A96D-D55C86D091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ckbooks Journal Entrie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utgoing Ord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bi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TD Accts Payab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92.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TD Clearing Accou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92.6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4BE5-F657-4BBE-BC26-D363A01773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B Adjustment &amp; other charg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have to additional entries for adjustments, taxes or Retrans char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ntries should be made to the appropriate accounts of your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1C47-83AA-46BF-9BE6-264EF0783CC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ther Wire Expenses &amp; Credi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order related expenses and rebates will appear in other sections of the clearing house stat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should be entered into Quickbooks to accounts of your ch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need to create additional accounts in Quickbooks to track these expenses and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F460-D988-4E40-9DA6-BE7C7A44BD5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eligible for export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ENTERED INTO THE SYSTEM THAT MEETS THE CRITERIA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39FF-A363-47B1-8BCA-70C76065324B}" type="slidenum">
              <a:t>3</a:t>
            </a:fld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sing a Clearing Accou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 Clearing Accou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earing account can be used to ensure all entries you make in Quickbooks are accu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books follows GAAP Generally Accepted Accounting Princi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quires that you make an offsetting journal entry when entering in expenses and cred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learing account for th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DD0A-0FCB-4353-BFDB-41783F9FC90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sing A Clearing Accou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520" y="1294920"/>
            <a:ext cx="7239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you make an entry for 20% commissions given on incoming orders you would offset this entry against the clearing accou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ll expenses and credit are offset to the same clearing account this ensures the entries are made correct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all activity has been entered from the clearing house statement and offset to the clearing account, the remaining balance on the clearing account will represent a amount that is owed to FTD or a check received from FT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8AD3-10EE-4996-8DE6-2EEF4998382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sing a Clearing Accou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mount that remains in the clearing account received should match the amount showing on the clearing house stat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lly once a check has been deposited from FTD or and check written to FTD that entry will be made against the clearing accou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entry will clear the balance in the clearing accoun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11AE-0484-40AC-AD6F-8327C5A48C4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!!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90CE-2F86-40F0-B6E2-892AD290744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riteria For Data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mpleted Order Entry  &amp; Point Of Sale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POS sales in a closed POS session (z-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 account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s entered from ‘Manual Ticket’ window (Credit &amp; debit me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e char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7F07-A9F7-4011-A688-7C67DE713576}" type="slidenum">
              <a:t>4</a:t>
            </a:fld>
          </a:p>
        </p:txBody>
      </p:sp>
    </p:spTree>
  </p:cSld>
  <p:transition>
    <p:comb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rt of Accounts Setup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0" y="1447920"/>
            <a:ext cx="5638680" cy="3636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H="1">
            <a:off x="5486400" y="2286000"/>
            <a:ext cx="4572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18FE-5341-4FEB-9D0D-A9460EEBCA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art of Account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t of accounts creates the Quickbooks company file where data will be expo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 also transfers any changes made in FTD Mercury that will affect the structure of the Quickbooks company file. i.e. creating a new product catego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make decisions on how you want certain types of information to transfer to Quick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2653-75D5-4A5E-ABB5-F654B273F0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rt of Accounts Setup: What You Must Conside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 Store Setup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gle company file for all vs. separate company file for e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sh Deposi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nk account vs. cash holding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edit Card deposi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nk account vs. credit card holding account (Accounts Re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id Outs &amp; In from P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ing expense vs. Cost of Goods S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A875-D540-40FF-85E6-24F176858C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rt of Accounts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ditional Feature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dditional bank accou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beginning date for the ex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\change GL account numb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0D4C-2760-47E6-8685-7F50AA8CAA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porting to Quickboo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s exported (transferred) to Quickbooks through the Balance Wizard option from Accounti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438280" y="2438280"/>
            <a:ext cx="5105520" cy="3292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>
            <a:off x="5638680" y="3657600"/>
            <a:ext cx="4572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73FA-4CAF-44FA-8530-AA01F473BC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TAC3740</cp:lastModifiedBy>
  <cp:lastPrinted>2004-05-28T16:39:18Z</cp:lastPrinted>
  <dcterms:modified xsi:type="dcterms:W3CDTF">2008-10-09T18:36:51Z</dcterms:modified>
  <cp:revision>44</cp:revision>
  <dc:subject/>
  <dc:title>PowerPoint Presentation</dc:title>
</cp:coreProperties>
</file>